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727-5157-4640-860C-46F18BED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0C4-8C01-4351-AFF4-6CBDD117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A93-5A84-489D-89A8-FFAD9645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C08-B013-4157-8D96-9FED34CF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A7D-7624-4571-B833-C4E55FE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14FE-75EF-45BC-B80E-C93891ED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8A97-1C9A-4A73-832D-A6B1B339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2396-1D8F-4592-8AD6-D4EB474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1A2-F8C1-4CE4-BE32-CF204C1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5ED5-90B8-481B-B747-35B20FD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F617-FB2A-4756-A2BF-2167FA3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557-B051-4F69-9B85-2F701F9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877-7011-4AA7-9DD8-0D083F5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D40-5499-40E2-889D-1D559CF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40E3-F5BE-4F8F-9859-8A10530C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680E-5011-4195-8A7F-5BDDF9CA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308-C4F4-4694-8E40-CCE74C7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5EA-46F8-4992-9873-179E1CF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572-FF30-4E73-81F4-AF596BD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C24-A987-42B4-9BAD-8D91A75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325-2B67-493E-A6B6-1CC78FBE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8FE-F63E-453D-A1C7-DF9D46C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77D-F595-43A7-B94B-9DBA0E5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B85-1BEC-4377-9E9F-372CBEA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D2E-C907-4B8D-9111-01961045AD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C26-BB0F-489D-95F3-739C920FB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6920" y="4581360"/>
            <a:ext cx="4608360" cy="187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主  讲：程   华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电  话：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13424331470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Q   Q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845857496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8540640" cy="182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色”眼识人 — 解析职场生存密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1267920"/>
            <a:ext cx="68403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同事脾气火爆，容不得半点拖沓，一言不慎便触动引线，与其交流，动不动就吵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同事语缓行迟，三棒子打不出几句话。与其交流，累得你捶胸顿足，他也无动于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室友经常准时睡觉，容不得别人一点吵闹；还有的室友很晚也不睡，还把音乐声开得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张三对你分配的事情随口答应，但你不天天催着要他就纹丝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李四不用给他分配任务，都能主动去完成，在你检查的时候给你意外的惊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王二麻子做事情速度很慢，但是做事情的质量总是让你很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43280" y="620640"/>
            <a:ext cx="3046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十二星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十二生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血液学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型人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液学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性格色彩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11640" y="907560"/>
            <a:ext cx="44863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 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性格色彩研究中心创办人，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P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格色彩”创始人，畅销书作家，知名主持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眼识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你的爱非诚勿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之初，性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眼再识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56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368360" cy="1224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916000" y="907920"/>
            <a:ext cx="3238200" cy="3600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他们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做事情的动机很大程度上是为了快乐，快乐是这些人的最大驱动力。他们积极、乐观，天赋超凡魅力无限，随性而又善于交际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77080" y="256536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8019720" y="836640"/>
            <a:ext cx="72900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红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907920"/>
            <a:ext cx="0" cy="38163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224000" cy="1224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152360" cy="115272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411280" y="5013360"/>
            <a:ext cx="1224000" cy="1224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2205000"/>
            <a:ext cx="93672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快乐的带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732720" y="907920"/>
            <a:ext cx="1296720" cy="1060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96360" y="4292640"/>
            <a:ext cx="1214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907920"/>
            <a:ext cx="1368360" cy="1152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1150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89640" y="620640"/>
            <a:ext cx="729000" cy="151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黄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168200" cy="116856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079280" cy="10792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1096920" cy="109692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340000" y="4869000"/>
            <a:ext cx="1241280" cy="12412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35640" y="5084640"/>
            <a:ext cx="13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020000" y="620640"/>
            <a:ext cx="1073160" cy="146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981000"/>
            <a:ext cx="360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们用深层次的驱动力来驾驭目标的实现和完成。他们一般都具有前瞻性和领导能力，通常都有很强的责任感、决策力和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421000"/>
            <a:ext cx="792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力的指挥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692280"/>
            <a:ext cx="1297080" cy="10792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11178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04000" y="2349360"/>
            <a:ext cx="1513080" cy="151308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091000" y="620640"/>
            <a:ext cx="729000" cy="1513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蓝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836640"/>
            <a:ext cx="3168720" cy="3240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们有着可贵的品质，对待朋友忠诚而真挚，善于独立思考，并在思想上有深层次的关心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1225440" cy="122544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64000" y="465300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708360" y="465300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516720" y="746280"/>
            <a:ext cx="1584360" cy="1185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2205000"/>
            <a:ext cx="863640" cy="1739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独特的思考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2459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20640"/>
            <a:ext cx="1295280" cy="100800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27280" y="836280"/>
            <a:ext cx="3240000" cy="3529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的核心本质是对和谐与稳定的追求，缺乏锋芒和棱角，他们宽容透明，非常友善，适应性强，是很好的倾听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6320" y="416520"/>
            <a:ext cx="393480" cy="154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绿色性格名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1440000" cy="1440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780000" y="4941720"/>
            <a:ext cx="1081080" cy="10810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835280" y="4941720"/>
            <a:ext cx="165564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219640" y="494172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93080" y="4869000"/>
            <a:ext cx="1584360" cy="1093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2060640"/>
            <a:ext cx="720720" cy="338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平的促进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907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287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常见的颜色组合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48466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 色        黄 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蓝 色        绿 色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红＋黄       红＋绿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黄＋红       黄＋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蓝＋黄       蓝＋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＋红        绿＋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什么是职场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7490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职场是与工作相关的环境、场所、人和事，还包括与工作、职业相关的社会活动、人际关系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5400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5185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阳光心态，积极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激情澎湃，梦想万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热情开朗，喜欢交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童心未泯，富有趣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乐于助人，不记仇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表达，调动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真诚信任，创新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640" y="380520"/>
            <a:ext cx="5688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68000" y="1773000"/>
            <a:ext cx="453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目标导向，永无止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求胜心强，敢说敢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坚定自信，永不言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控制欲强，抗压力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坦率直接，实用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快速决断，敢冒风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抓大放小，高效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7640" y="380520"/>
            <a:ext cx="56883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蓝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10920" y="1752480"/>
            <a:ext cx="46818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思想深邃，独立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成熟稳重，安全放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感细腻，一诺千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计划周详，注重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讲究精确，迷恋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考虑全面，善于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执着有恒，坚持到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4000" y="380520"/>
            <a:ext cx="540072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752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中庸之道，稳定低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乐天知命，与世无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毕生无火，巧卸冲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镇定自若，处事不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天性宽容，耐心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人后己，欲取先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重视和谐，以人为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380520"/>
            <a:ext cx="54738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局限性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79280" y="1916280"/>
            <a:ext cx="4846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聒噪咋呼，惹人厌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口无遮拦，缺少分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绪波动，要死要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随意性强，变化无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守承诺，杂乱粗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虎头蛇尾，缺乏自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逃避责任，拒绝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496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95640" y="2133360"/>
            <a:ext cx="5207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以为是，死不认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控制欲强，操纵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缺乏耐心，脾气暴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硬严厉，喜欢批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意孤行，刚愎自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我中心，忽视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7640" y="380520"/>
            <a:ext cx="56883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蓝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5278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消极悲观，迂腐封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敏感多疑，脆弱自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心机深重，相处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求苛刻，压抑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死板固执，缺乏幽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顾虑重重，行动缓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挑剔较真，化简为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640" y="380520"/>
            <a:ext cx="561672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50623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懦弱无刚，胆小怕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思进取，拒绝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信匮乏，缺少主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羞于拒绝，惹火烧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逃避责任，能拖就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粉饰太平，迷失自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袖手旁观，姑息养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思  考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7273800" cy="2232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红黄蓝绿四种性格的人都喜欢上了同一个女孩子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6337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色在工作值得表扬的地方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工作主动性强，愿意寻找新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富有感染力，能够吸引他人参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激发团队的热情和进取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令人愉悦的工作伙伴，善于赞美和鼓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短期目标时，极富爆发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反应快，工作活泼化，富有创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72692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能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政治能力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064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能力：时间掌控能力、知识水平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、现场问题解决能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职场政治能力：判断自身所处环境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，创造利于自己条件的能力，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际关系建立的能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27416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在工作中该批评的地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129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跳槽频率高，这山望着那山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没有规划，散漫，随心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没有焦点，精力分散太多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很难全神贯注，经常性的走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喜欢高估自己，爱打包票，爱吹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切实际的希望工作都有趣味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5257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在工作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36596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动作干脆利落，讲求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烈的结果导向，善于设定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瞻远瞩，有全局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委派工作，天生具备领导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竞争越强，精力越旺，愈挫愈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快速决策并处理所遇到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6934320" cy="10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色在工作表现不好的方面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2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生活在无尽的工作中，典型的工作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目标没有完成时，容易发怒且迁怒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工作第一，人的事情第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武断，自我意识强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寻求更多的权力，有较强的控制欲，让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属口服心不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了自己的面子，不妥协且毫不认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676908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蓝色在工作中的好品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895400"/>
            <a:ext cx="73454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调制度、程序、规范、细节和流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事之前首先计划，且严格的按照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划去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喜欢探究及根据事实行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度自律，尽忠职守，追求卓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承诺，一丝不苟的执行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力求完美，有较高的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在工作中让你咬牙切齿的地方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662472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过度计划和绸缪导致行动缓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较真，挑剔他人及自己的表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致人员关系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专注于细节，有时因小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吝啬表扬，强烈的形式主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墨守成规，死板教条不懂变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了维护原则缺乏团队融合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在工作中让你佩服的地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5837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超的协调人际关系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自我调节，能从容的面对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超脱游离政治斗争之外，很少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人本管理，尊重员工的独立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自然低调的行事手法处理事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团体为导向，善于为别人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5614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让你恨铁不成钢的时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安于现状，不思进取，很难取得高效的业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害怕冒风险，缺乏自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事拖拖拉拉，且缺少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宁愿做旁观者，不肯做参与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缺乏主见，压抑自己的感受以迁就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太在意别人的反应，很少大胆表达自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立场和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   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20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修炼我们的性格，让我们在职场上表现更精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31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红色一起欢乐，与蓝色一起统筹，与黄色一起行动，与绿色一起放松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6357960" cy="21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6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职业定位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确定自己你是谁？你适合做什么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告诉别人你是谁？你擅长做什么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自己 ，了解职业 ，了解自己和职业要求的差距，如何把自己的定位展示给面试官或上司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职场的辛酸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能力强的却没有提拔，能力一般的却提 拔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阿谀奉承的人得到重视，默默做事总却被人忽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实话被领导斥责，说假话却得到欣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司脾气暴躁，动不动就把人骂得鸡飞狗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拿着辛薄的工资，做着没完没了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想陪陪家人度个周末，却被一个电话叫回去开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2520720" cy="79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4440960"/>
            <a:ext cx="64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选哪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3640" y="2060640"/>
            <a:ext cx="251928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268280"/>
            <a:ext cx="2448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2049480" cy="280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32000" y="549360"/>
            <a:ext cx="2519640" cy="71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35344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对职场上的“为人处世”存在困惑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很难把握跟领导打交道的分寸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.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面对‘潜规则’不知该不该坚持自己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9.7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搞不清办公室政治 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9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逢年过节不知如何表示 。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6.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人际交往细节不知该怎么样好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4.2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作不顺利，不被理解和肯定。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.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在影响职场表现的诸多因素中，到底哪些最重要？调查结果依次是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007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领导关系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为人处世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2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关系背景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8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工作能力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6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工作态度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4.4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同事关系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道德品质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.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资  历”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学  历”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.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上司决策很快，对你的报告很快给了回应，有的上司对你的报告十天半月也没个动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上司喜欢语言交流，有的上司喜欢书面报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时候你觉得你的上司的专业能力和处理事情的水平还不如你，你鄙夷他却无可奈何，因为他受老板待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52:04Z</dcterms:created>
  <dc:creator>David Liu</dc:creator>
  <dc:description/>
  <dc:language>en-US</dc:language>
  <cp:lastModifiedBy>微软用户</cp:lastModifiedBy>
  <dcterms:modified xsi:type="dcterms:W3CDTF">2013-11-30T16:10:05Z</dcterms:modified>
  <cp:revision>142</cp:revision>
  <dc:subject/>
  <dc:title>四大名著中的职场生存法则</dc:title>
</cp:coreProperties>
</file>